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B42C-78E3-4035-B2BA-F951110D19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43F4-C7D4-4A74-800F-616079D6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E1FA-97DB-4879-9661-CB260AB2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B880-5181-491D-8E07-DF841D93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42AD-E636-4026-9743-69F3185E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53AE-E49F-4DB3-BB8A-BB48FDFD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53DB-9A9F-420C-9449-7DC59735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8F1E-149C-4A29-8E0E-D7FFD6A5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9F6E-6815-4FF8-BE6B-F2A74B81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162-C12D-4C67-8E13-E4D2C09F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0313-9D40-4F29-BB24-CA4BEDD7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182C-CF92-4A43-8A1D-527C88AA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9E0B-2770-4107-A874-61DB08C0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914F-6D72-4864-9853-9BBC341DB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RomaK</cp:lastModifiedBy>
  <dcterms:modified xsi:type="dcterms:W3CDTF">2015-09-04T09:33:55Z</dcterms:modified>
  <cp:revision>22</cp:revision>
  <dc:subject/>
  <dc:title>The French and Indian War</dc:title>
</cp:coreProperties>
</file>